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4.png" ContentType="image/png"/>
  <Override PartName="/ppt/media/image8.jpeg" ContentType="image/jpeg"/>
  <Override PartName="/ppt/media/image29.jpeg" ContentType="image/jpeg"/>
  <Override PartName="/ppt/media/image13.png" ContentType="image/png"/>
  <Override PartName="/ppt/media/image12.wmf" ContentType="image/x-wmf"/>
  <Override PartName="/ppt/media/image6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3.jpeg" ContentType="image/jpeg"/>
  <Override PartName="/ppt/media/image27.wmf" ContentType="image/x-wmf"/>
  <Override PartName="/ppt/media/image16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7.wmf" ContentType="image/x-wmf"/>
  <Override PartName="/ppt/media/image15.jpeg" ContentType="image/jpeg"/>
  <Override PartName="/ppt/media/image26.wmf" ContentType="image/x-wmf"/>
  <Override PartName="/ppt/media/image24.wmf" ContentType="image/x-wmf"/>
  <Override PartName="/ppt/media/image1.wmf" ContentType="image/x-wmf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F030-EEBB-4E03-A532-C0281EB1A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orida Timeline for Assistive Technology assessment is:  30 days, 90 days or 60 d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rida Social at ATIA will be on:  Saturday night, Thursday night or Friday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Labs will continue to be supported with an emphases on?  Equipment Trials, Make &amp; Takes or Open House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 3 resources are posted?  Region 3 w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egion 3 Teacher of the Year 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E9E-6B64-4FFF-BDF7-7D226635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A44-ED59-408A-A445-296B31B1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73C-7BAF-4BAC-A885-2C060B9A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53D-911D-44C3-9E0B-A0E91A5A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3D0-8F51-4692-BE88-AA58D0B0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9D7-58C4-46E6-AA17-9C9DEAD2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269-FE4F-4531-A966-63B8BC66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C9C-9A2E-44D8-B569-4C7F5419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F31F-0D6B-461E-919D-292C23DC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703-E89C-418A-8A28-09EF1926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1D8-D1A8-43F8-BA93-2691C38A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74E-929A-4ED9-9E98-07264663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543E-9D85-49FB-806D-1AA173DF4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nimoto.com/play/0fnyxmtzXhB4kMTQgC31Ew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tia.org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tia.org/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Perpetua"/>
              </a:rPr>
              <a:t>           </a:t>
            </a:r>
            <a:r>
              <a:rPr b="0" lang="en-US" sz="9600" spc="-1" strike="noStrike">
                <a:solidFill>
                  <a:srgbClr val="000000"/>
                </a:solidFill>
                <a:latin typeface="Perpetua"/>
              </a:rPr>
              <a:t>Region 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Perpetua"/>
              </a:rPr>
              <a:t>Welcom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Perpetua"/>
              </a:rPr>
              <a:t>&amp; Thanks for being her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27672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Satellite 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Priority on device trials &amp; reducing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Visits &amp;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Virtual bank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STLL wait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Satellite &amp; Lab Tracker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28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159680" y="4800600"/>
            <a:ext cx="17445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 rot="21332400">
            <a:off x="1523880" y="304920"/>
            <a:ext cx="6323040" cy="6323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2280" y="480060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-228600" y="0"/>
            <a:ext cx="3048120" cy="265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122960" y="4419720"/>
            <a:ext cx="1758960" cy="2157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629400" y="152280"/>
            <a:ext cx="21240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erpetua"/>
              </a:rPr>
              <a:t>Carousel Activ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Matrix level 4 &amp;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60 Day Tim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iPad – District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Apps for AS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Writing Readiness to Keyboarding Ra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9625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Carousel Ac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9:30 – 10: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10:15 – 11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11:00 – 11: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Networking Lun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12:30 – 1: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1:15 – 2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Perpetua"/>
              </a:rPr>
              <a:t>Networking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Perpetua"/>
              </a:rPr>
              <a:t>Lun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33720" y="3429000"/>
            <a:ext cx="467496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1828440"/>
            <a:ext cx="815364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Perpetua"/>
              </a:rPr>
              <a:t>Marcia Stern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3276720"/>
            <a:ext cx="899172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OCP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Exceptional Student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Perpetua"/>
              </a:rPr>
              <a:t>Teacher of the Y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2011 -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610840" cy="2533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238880" y="5187960"/>
            <a:ext cx="1760760" cy="14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Perpetua"/>
              </a:rPr>
              <a:t>Spring Symposiu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Da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Loc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Topic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67280" y="4502160"/>
            <a:ext cx="29847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10480" cy="54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-228600"/>
            <a:ext cx="8839440" cy="7402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Perpetua"/>
              </a:rPr>
              <a:t>Items for picku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Boardmaker Stud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Physical Science CD’s 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Shari Hi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5 Pulse Pen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1523880" y="-633240"/>
            <a:ext cx="12191760" cy="81244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Perpetua"/>
              </a:rPr>
              <a:t>Have a safe ride h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erpetua"/>
              </a:rPr>
              <a:t>Robin Gips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nimoto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link: 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Perpetua"/>
                <a:hlinkClick r:id="rId1"/>
              </a:rPr>
              <a:t>http://animoto.com/play/0fnyxmtzXhB4kMTQgC31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 rot="20890800">
            <a:off x="329760" y="391464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 rot="4480800">
            <a:off x="6188040" y="4022280"/>
            <a:ext cx="2921040" cy="2190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971800" y="3809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5867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Statewide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Regional calend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AT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Satellite La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Wik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Carousel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Symposium planning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2057400"/>
            <a:ext cx="34970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66320" y="1447920"/>
            <a:ext cx="7162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Reg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1) Janine Chimera, Brevard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2) Stephanie Butler, Osceola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3) Marianne Hamilton, Sumter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4) Marty Varner, Seminole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5) Marcia Sterner, Orange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6) Jean Blank, Martin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7) Tanya Vickers, Martin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8) Susan Lerschlolarn, Brevard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9) Kathy Holloway, Brevard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10) Janice Kelly, Brevard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11) Nancy Frana, Brevard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12) Sharen Corrigan, Volusia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13) Pam Judge, Volusia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14) Shari Hill, FDLRS 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15) Becky Atwood, FDLRS 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16) Teri Grimes, Seminole Cou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Will be registered by Janet G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Assistive Technology Industry Association 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280"/>
            <a:ext cx="85726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erpetua"/>
              </a:rPr>
              <a:t>FDLRS E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Becky Atw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Shari Hi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Perpetua"/>
              </a:rPr>
              <a:t>Susan McCloske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ich Burdett – 1 day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Sharen Corri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Pam Judg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herrill Dav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Janine Chimera - wa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Nancy Fr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Kathy Hollowa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san Lerschlolarn - wa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Janice Kell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3733920" cy="2666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715000" y="3852720"/>
            <a:ext cx="3276720" cy="23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erpetua"/>
              </a:rPr>
              <a:t>FDLRS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68544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Perpetua"/>
              </a:rPr>
              <a:t>Alissa Plais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ephanie Bedn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Stephanie But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Kathy Carp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ne Fle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eri Grimes - wa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Marty Varner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on Phinn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Perpetua"/>
              </a:rPr>
              <a:t>Cathy Geor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Perpetua"/>
              </a:rPr>
              <a:t>Tami Fol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Perpetua"/>
              </a:rPr>
              <a:t>Kim Byrn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Marcia Sterner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Perpetua"/>
              </a:rPr>
              <a:t>Marcia Piersall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Marianne Hamilton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Jeanette Argento – on le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rcy Hendri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Teresa Pin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Perpetua"/>
              </a:rPr>
              <a:t>Debbie Am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Perpetua"/>
              </a:rPr>
              <a:t>Jeff Da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4087800" cy="36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579132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Perpetua"/>
              </a:rPr>
              <a:t>FDLRS Galax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Perpetua"/>
              </a:rPr>
              <a:t>Sharon B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erpetua"/>
              </a:rPr>
              <a:t>Jean 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erpetua"/>
              </a:rPr>
              <a:t>Tanya Vi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Perpetua"/>
              </a:rPr>
              <a:t>Judy Walters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Perpetua"/>
              </a:rPr>
              <a:t>Mary Grace Hektner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Lisa Harris – on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erpetua"/>
              </a:rPr>
              <a:t>Gail McHenry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Perpetua"/>
              </a:rPr>
              <a:t>Regina Mayernik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Perpetua"/>
              </a:rPr>
              <a:t>Debbie Simari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27672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erpetua"/>
              </a:rPr>
              <a:t>Buena Vista Suites for Jan 25-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6 rooms - draw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1148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267080" y="1523520"/>
            <a:ext cx="472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6633"/>
                </a:solidFill>
                <a:latin typeface="Cooper Black"/>
              </a:rPr>
              <a:t>Florida Networ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ooper Black"/>
              </a:rPr>
              <a:t>Thursday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ooper Black"/>
              </a:rPr>
              <a:t>5:30 – 6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ooper Black"/>
              </a:rPr>
              <a:t>Location will be posted at our bo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ooper Black"/>
              </a:rPr>
              <a:t>Network with your collogues from around th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Assistive Technology Industry Association 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418932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5:33:27Z</dcterms:created>
  <dc:creator>Janet</dc:creator>
  <dc:description/>
  <dc:language>en-US</dc:language>
  <cp:lastModifiedBy>Janet</cp:lastModifiedBy>
  <dcterms:modified xsi:type="dcterms:W3CDTF">2011-12-12T15:32:39Z</dcterms:modified>
  <cp:revision>16</cp:revision>
  <dc:subject/>
  <dc:title>Slide 1</dc:title>
</cp:coreProperties>
</file>